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F1E0-95F5-425C-B6C4-FB6EAE039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DADD-05A0-4145-8FE1-7CB7AC90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8059D-A3AD-4216-B177-5A6CA091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DE928-9DFA-415E-AD2F-8DE04D4B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FF946-54C1-44F6-9197-6DCF8DAF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DE0F2-374D-4956-9662-325B7D8D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A2421-DF3C-4D43-8D1F-161A8A93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0EB76-E896-4FCD-9725-423C2598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69F9E-25F5-4D18-8F41-AE0240E5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EAF29-FC3B-44EE-8156-C7F23F9D8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C95F7-9B4D-4BAD-8325-005BA89D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48B42-4520-43BE-BC35-77B3DE83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30B1-DB05-4521-8FA8-4C396DB37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CB37B8-6B11-4B88-A75F-2E534345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1FA7A-DC1B-4D82-BDB9-1ACFF419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CEE463-D040-456F-9AC2-76B04A44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E92289-C436-42FC-9C04-96B9C79A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17AFD-3726-44DD-88F7-5538A2D8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3A1BE-4865-462F-94AE-0AF1EDC9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4B998-5613-4033-9FA6-7FEBFB2B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119B0-52C8-4D36-A95F-DCDB6F7E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0E06EF-5F2D-4229-B1B4-336E6775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F8344-52B3-4D7C-8A5A-F2F16A467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1891-B254-457F-9E5F-B888BAD59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B50DA-991F-4291-BC41-DEA45DF39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12B3C4-D616-44EC-AE7A-71231839D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97C21-C820-4886-BC87-1EF8EFE4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398EF9-F32B-4B06-BC11-F834746D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EF8219-8C1E-4C17-9E86-6B1974C6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3F650F-914A-402D-9E0B-DFE91B62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F1E0FB-4181-4164-8AC5-A945BB04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6F536-B05D-47F6-974F-CB97F8FB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64DD79-CC80-4817-A218-1DCB6039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8DBA5E-F722-4C40-A7D8-174DD5B4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9B06-DC93-43AD-9395-4DC1B2D0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B1922A-47B9-46DB-ACCC-0A42B8DD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13CC9A-9791-492E-94ED-CDA87D6C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AED486-83D5-4EE6-BC8B-BB8EFA7E0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93433-EE76-4482-9ED5-7FB3A5DB6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CF706-9856-41C8-8FF5-6C6C3FD4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5798F-DAD3-4CBF-8493-9D62986D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60EC1D-0EDD-4CCA-A4AA-DFBFFE4B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EF9EA-C246-48A5-8CD9-016F74BE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9E8F7-2347-4C8F-A6C0-FAD55541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04347-99C0-481E-BF4D-362D2620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D47B-4F98-4DB8-9AA5-EE420E6B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A20E2-00B8-4110-9E67-9F1C6C9A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0FFADA-C8B2-4899-90CB-D5ED6C36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E22B7-0843-4E34-80B8-A1A3221C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883A3-A203-4A89-A05F-AF3459C19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1F461-27FC-4D0B-A18A-BA8F5BF00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ECD0FF-7B7B-454E-A11C-788986501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2AD6DC-3CF2-4D8D-B699-80C3CB36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8979ED-2454-40EA-B39A-A738328C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C6C03B-23DB-4651-9157-88F59092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A3206C-4F40-4C64-9263-3D7493F4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8C98-75D7-4ED6-A73C-0AD0D642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D2C1E2-10B8-45E7-8C4E-228016B5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6DCC64-11E0-4A69-8E42-14F4876B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9C9E3E-77B5-4CE1-869C-59366BFF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549D10-A66F-4CFD-A364-B24BD603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040BE9-7043-49B9-832E-8DA385B2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6918E0-1A23-4384-9D2C-38D2085E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C09610-3380-4F55-AFCB-3541BDE04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3EEC1E-91D0-4B72-B324-25B20334F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82F071-5CBD-4905-8D77-5B60E601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00C281-4A78-489F-A4A0-ACC051D7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319C-0DAA-43BB-A5C0-BCD3F7AC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5DC872-0803-4F6C-98CA-662B308C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47BEB6-2712-411D-9E69-A2C5A1AE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439870-DE85-49D3-8C77-D2701D24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970314-C0EA-4FD0-9501-AA8FD10D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9A042A-4529-4EC7-B5A5-1489EADB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03F9C6-1F7F-4C3F-979E-0ABA5E42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02AAA5-BFBB-4522-A5D8-3A71E36E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FB09EA-3068-49CF-ACF1-C932CFD6F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EAC57F-A16A-4D55-90DA-2F8F1F306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72725B-17A9-4C3C-8CE8-C4987AE07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610B-EFD1-449D-B46C-CB3C46EC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5EC949-88E9-44DB-9176-9C04DBD9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D6DD8D-AB15-4490-98D4-A9410813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1E02F6-3FA1-4A48-8829-27BA8CFB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3AAD3A-9375-4796-8ADE-1CB70FBD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5D2EA0-357B-4414-B76D-024387A9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D40D22-F49F-460A-BDE4-634CBFA9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FCC042-4A11-48B9-B898-56DFEF6F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880B43-486B-45A9-BEF0-D8302A76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1CA3AD-9622-489A-9CAF-B30918FB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4C5D2E-B09A-4230-9AF5-61D5ECFA6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CF13-E982-415B-9A1B-AFF2ABDF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13B3A5-0B2A-4E5C-8AC1-840BDB5AC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F4CF20-B094-412E-BC63-CE1C9BB12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F71A5A-C116-4722-9366-1D085AAD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F14373-2B1F-4AF4-AEF2-DB6BF72F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E8C701-B03B-4A1F-A1F9-28151D30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DFAF5B-8427-4E98-B03A-7C8A3355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2FB948-9835-4592-987C-93141C7A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E9F45A-65CA-451E-B721-9A6F4605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40392E-CF11-4B3F-A31B-9FF57FC2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673254-08C7-47D2-93EE-CA777FBE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125E-5A31-4900-B73C-FC4DD10B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490AAA-9EEA-42ED-9D89-47CBBE1D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B51F0F-25AB-4DDB-8DD1-CD0F27E31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F1D0A2-5992-4E9F-B6EF-803DCE5F3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F8154D-EECE-4D06-8152-C63F0D26B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6C1C33-2BDD-4089-B64A-7377DCBC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822631-8D84-47D5-AB08-6F6B2984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238AFB-A825-44DA-B52C-4B097FF9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FBE1B5-3ABC-42F9-A08F-B6CA9084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FDBE10-856A-4299-90F7-896D3027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EB78B9-E454-41FA-B4DB-101B7A22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2711-6C39-4628-9DCA-9A5692AB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0B7C-C352-4958-9104-E780F0A6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34877B-127A-44B0-86B1-8DA67A57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674DE1-B4B8-4B55-8259-3E3EC71A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5C108D-9459-461F-8F6F-B1242457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9D6953-8B62-4DFD-BB98-9F1F4F5B5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D5138F-D5FA-47A2-A49C-750B40FC3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BFD480-C83F-4919-9E97-00D17B02D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AFC622-6C65-4DEE-B84C-A77C6EF8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858C5C-AD0E-48FF-8AA8-F3CEDB91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7F12B0-3D58-449D-AFA3-0F2374DC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2BEEC7-2ECC-45F0-BB3E-3C508BC4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8B0B-5DBD-4CB7-921D-3C95A69A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480D20-970D-4D0D-A4C5-E0787DA8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9ED065-1D79-4D36-9BAA-FE758354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81D326-9C8E-435C-AD79-EC85285D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9B53AB-DFB5-47AA-AF6F-F6940FA0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322802-EA3D-4B12-B9B5-B200D0B6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2A7954-BB74-4D1D-B65F-E91B7C01D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6F47A9-6C24-4FBA-BCD2-4EC789854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76F690-BB35-4EAF-B8EB-623DAF524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DF5B97-443B-4700-82FF-72AD4457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C0EAB1-920A-4A11-BB54-5EBED393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6E99-722C-4EA6-95C9-5F58E13B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585F3D-1A99-4D15-B2C5-69618B39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6621E2-9F61-465B-BF41-5E138912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2D8574-4204-41F7-9B29-658FFDB2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090679-11D0-4647-BAA5-7E469327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921A2E-F852-4993-A88C-54683E9E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F32436-40CA-4979-82B6-684A2916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89275D-D05C-4211-A64E-35651734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C297B2-6872-4546-BFDD-947B202B7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360170-C512-4C2B-BA41-942EE1F39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B523EB-FA4A-4830-ACB6-DF30FF389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902C-4761-4480-89FB-0467A998B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C98C53-4AA6-4EA8-9ED9-95A6B617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924BF2-5B5C-40C6-9741-44FFA013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5D4E4E-2550-4BED-A19C-E1284F95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7CD3B4-C1D3-4171-88D6-B3C471EC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68E518-A55E-47FF-8EFE-A6DED018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880D69-167B-4E23-91E1-B20FFBA6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46D5E4-229D-4F0A-BAA4-EE7CCBC9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8C1CA6-49F2-4DEF-BC7A-0327798A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FF0EF0-BCAF-4CC0-9359-9AB0C27E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7C30C2-CD5D-49A2-940A-C6CA24E66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9DCD-2C14-44C9-ACEC-B92920A41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67037D-417E-4EAE-A572-983882BAD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DD3DDC-C35C-41DF-BDFF-8EA2AA654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651931-671F-49E4-88C6-31FF700F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56384C-FC36-493A-84AE-29F96578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AD543B-EAD3-49D9-903F-2186EBCD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CFB57C-95C9-40E4-BC43-1D29A2C7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C3C431-E7B8-4665-B06C-8AC53C91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3B4A19-F0D6-4D5C-819D-D5ABF06A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C9FBB7-C765-476E-B2BD-33096565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BB8293-29B7-4EBE-88F6-705DB7AD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08D0A5-0232-42D9-8EF1-CD3CE55B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33EC3F-3421-4DF5-90C0-F78D6A2B9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876243-9D5B-428B-ADEB-3CD23B849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561C-D2E2-4B84-A04D-5A85E93C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92B71-D518-4A0C-A67C-4EB7C1642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F66D8-BF32-4A14-8C67-074FF9E9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F6013-EB7A-4046-B5ED-017B779E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3EF6-958B-448D-8278-670B358F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333E4-167B-4236-BB9D-DF669C44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E2D02-FFB6-45B2-9343-090B5BD1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EDB7B-C5FA-47C2-82AD-FDB98108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3E1EB-DD14-414A-BD55-FB0AF0BF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A1C35-97BF-409A-9FE5-9B5503A3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FA74F-7543-4E63-8A33-C1AA74AD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3B42E-8950-4E0E-A412-421752D7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231F4-6706-4951-82B7-1917163B5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D3016-C1B1-472A-BE0F-D52C8BB74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35A73-BB32-4304-95CF-9B45D7AC1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2A4B-E3B4-4484-9FEB-2F72A139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34F55-51CF-4EBA-99F0-3AE13452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6190A-BA02-4A7D-BA12-377E7940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96877-8F75-4361-AD2C-4A19F515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0261B-229C-4D80-8058-A5B37F9F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403E5-77F2-4439-B735-919F291B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8F0D3-A8F4-497B-B411-AEBDBB7E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8F36C-3187-4190-8AD3-E97831D5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89C74-16D4-4873-AEE7-9340F2A7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14048-CE71-4E78-B292-FD64BE0F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31509-22AF-4D8A-92A0-4A0DDDDAC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FCFE-943D-4C13-9BB3-75C49928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2E702-B4F2-4757-A00D-3A8E03F28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6FF25-A742-43DF-AD4D-14F0063C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2CA10-CC84-43E1-9586-A647788E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C2455-C585-445E-A2C1-373B0966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07B56-15BD-4F13-95C2-24E07D38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6C45A-E1DA-4E91-8C87-63045E96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C5B3D-CCB8-4842-9706-A97CA66B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8B970-6F3D-4501-A059-BE8A8577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F5C1D-506B-4C76-AFF7-CC9289FC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DB069-1930-4239-99BF-DDBC3FA0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B853-88C8-4BA3-B0A8-2C9F16AB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7A63C-0B81-43CB-BBE5-EA640039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0178E-C5FC-41E6-9BF7-1FB35687C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7E553-9B22-4525-8B53-5710B1625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DBCD8-8C5B-429A-83C2-5F7F426CB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22247-5D9E-4B25-BEC0-A60A93B1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DD5ED-ABE3-42F1-B226-595A49F8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FA8E8-58D5-49FD-80D3-5E8C763F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DE75F-244C-4775-8F15-9B8D8CBB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68B10-0A72-4C99-8FA1-E3F8C1EF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D37DE-773C-4060-9586-D9078ACD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56FF-6293-48E6-A6D6-6C8A7FB7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942E3-61BC-460A-BC39-AD651A97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466ED-8D49-43FE-BD08-888D1E23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4B21F-34FC-46C2-8BCA-1B619740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0EF0C-4DCD-456D-BF69-9CED9EC7A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69DF5-5615-4329-BA60-6B07A8234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62641-1226-4EAE-B01A-B10A24C84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A085E-5FC6-41A6-BCDF-5B723583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7F58B-500E-41C5-9329-522B2C04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BCB2A-1281-4B52-B3CF-30CF7CD0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FD654-59EB-4598-A897-D8E8D420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A2F0-837B-4486-9D50-BBC5AE5A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7239D-3BDB-4C4F-8120-E336D38F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69BB7-3C9E-417F-B204-23780327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8EB13-62BF-47CD-864F-18D4E2C4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B618C-A7A1-473E-A2BA-51C43ED6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D0986-B24E-42F9-A47C-61D54A39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B5939-5BA5-4839-B325-7DDD9168D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C6E4A-A094-44A7-8662-582FFF5A1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87227-86A1-4789-B4DA-448F1A4B9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232B7-7F2A-4789-AB31-A9C50CEE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6E5C3-7DD7-424F-A584-8CC63095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5AA4-F0B9-4479-9182-046E01F0EB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3395-15E5-4231-AEAE-519BA439F2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B53A-98FD-480D-87FC-8AAA4FCCB0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8C98-0BE3-48F9-B714-8134C613FD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F4AF-9F73-44A1-A6F1-A0D1895E88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9AB1-AF62-40CB-BAB2-8F1BEF4483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E864-AD65-4F1E-8AFF-BD65B93CE8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60FE-224D-468B-8173-838EEA294B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0BCA-AEB2-4A1E-AA3E-D34FCD10BD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5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6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07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09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1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2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4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5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1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DAC5-B615-473C-B162-DFD911821E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A971-BD9E-4849-9097-9304218A1A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67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68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4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D860-1904-4E38-820B-31E2FBF352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65FD-2A0F-4C59-8F6D-C2DDAAE234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D022-F04C-4A48-8D0F-4340297DBC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EAF0-D645-43C6-954F-30328E6F71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5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6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2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0540-175C-4306-9655-083157D66A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64FA-40D7-41EE-87C2-CC3A84267B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AB0F-12F1-4EB6-A5B9-743B3B18D1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117E-8491-41F8-8BA5-0CA213F0CE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3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4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68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ABCD-DD03-4A92-B428-4E00735F04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3629-2ABB-46B2-972A-04062ED21F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AD0F-2FF0-44FE-ACE5-8A29A48228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DACC-FAA7-48A0-A793-75B7B8184B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C8E9-54D9-4AF2-8971-B0E2EBA13A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CFB9-E67B-4A42-9F6F-0430E2752D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59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0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1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2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4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5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7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68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69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5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6D2D-3DAC-493B-86EE-C9EF2B7CFF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A49E-5B2D-413E-9047-4891ADA89E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078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6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28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4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B742-0DCB-4F7A-90B5-12BCBD73C8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F2E6-545D-41C7-BB4A-26E06FF0F0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F4F8-0037-4047-93EA-943B4DB294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254C-4423-42D5-B6B5-3F790A3721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3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4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5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1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A0D3-F979-4A54-A07E-A7E4B2F438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1CF2-FC6D-4834-8A06-06BA3551FE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3C4C-77DE-47F7-A482-D123E80ECB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EAAF-1952-4305-ACAD-945ECBA705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5A64-0309-4CFB-AD10-2639A13380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CE7C-7515-4704-8BA1-2E693A5E16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5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67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1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7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8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89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9842-4156-4E2E-BBAC-213D7A128F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B298-F855-4605-AC9E-477B226B8A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1" name="图片 2051" descr=""/>
          <p:cNvPicPr/>
          <p:nvPr/>
        </p:nvPicPr>
        <p:blipFill>
          <a:blip r:embed="rId1"/>
          <a:stretch/>
        </p:blipFill>
        <p:spPr>
          <a:xfrm>
            <a:off x="100080" y="2604960"/>
            <a:ext cx="894384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95" name="组合 13315"/>
          <p:cNvGrpSpPr/>
          <p:nvPr/>
        </p:nvGrpSpPr>
        <p:grpSpPr>
          <a:xfrm>
            <a:off x="1835280" y="1989000"/>
            <a:ext cx="4771800" cy="3025800"/>
            <a:chOff x="1835280" y="1989000"/>
            <a:chExt cx="4771800" cy="3025800"/>
          </a:xfrm>
        </p:grpSpPr>
        <p:pic>
          <p:nvPicPr>
            <p:cNvPr id="1096" name="图片 13313" descr=""/>
            <p:cNvPicPr/>
            <p:nvPr/>
          </p:nvPicPr>
          <p:blipFill>
            <a:blip r:embed="rId1"/>
            <a:stretch/>
          </p:blipFill>
          <p:spPr>
            <a:xfrm>
              <a:off x="1835280" y="1989000"/>
              <a:ext cx="477180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7" name="图片 13314" descr=""/>
            <p:cNvPicPr/>
            <p:nvPr/>
          </p:nvPicPr>
          <p:blipFill>
            <a:blip r:embed="rId2"/>
            <a:stretch/>
          </p:blipFill>
          <p:spPr>
            <a:xfrm>
              <a:off x="1871280" y="4043520"/>
              <a:ext cx="4514760" cy="971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98" name="Picture 1" descr=""/>
          <p:cNvPicPr/>
          <p:nvPr/>
        </p:nvPicPr>
        <p:blipFill>
          <a:blip r:embed="rId3"/>
          <a:stretch/>
        </p:blipFill>
        <p:spPr>
          <a:xfrm>
            <a:off x="3564000" y="30114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1" descr=""/>
          <p:cNvPicPr/>
          <p:nvPr/>
        </p:nvPicPr>
        <p:blipFill>
          <a:blip r:embed="rId4"/>
          <a:stretch/>
        </p:blipFill>
        <p:spPr>
          <a:xfrm>
            <a:off x="3478320" y="45655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2" name="图片 14337" descr=""/>
          <p:cNvPicPr/>
          <p:nvPr/>
        </p:nvPicPr>
        <p:blipFill>
          <a:blip r:embed="rId1"/>
          <a:stretch/>
        </p:blipFill>
        <p:spPr>
          <a:xfrm>
            <a:off x="2419200" y="1547640"/>
            <a:ext cx="4305600" cy="37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105" name="组合 15363"/>
          <p:cNvGrpSpPr/>
          <p:nvPr/>
        </p:nvGrpSpPr>
        <p:grpSpPr>
          <a:xfrm>
            <a:off x="250920" y="1197000"/>
            <a:ext cx="7777080" cy="4124160"/>
            <a:chOff x="250920" y="1197000"/>
            <a:chExt cx="7777080" cy="4124160"/>
          </a:xfrm>
        </p:grpSpPr>
        <p:pic>
          <p:nvPicPr>
            <p:cNvPr id="1106" name="图片 15361" descr=""/>
            <p:cNvPicPr/>
            <p:nvPr/>
          </p:nvPicPr>
          <p:blipFill>
            <a:blip r:embed="rId1"/>
            <a:stretch/>
          </p:blipFill>
          <p:spPr>
            <a:xfrm>
              <a:off x="250920" y="1197000"/>
              <a:ext cx="5829120" cy="412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7" name="图片 15362" descr=""/>
            <p:cNvPicPr/>
            <p:nvPr/>
          </p:nvPicPr>
          <p:blipFill>
            <a:blip r:embed="rId2"/>
            <a:stretch/>
          </p:blipFill>
          <p:spPr>
            <a:xfrm>
              <a:off x="6875640" y="1733400"/>
              <a:ext cx="1152360" cy="3391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08" name="Picture 1" descr=""/>
          <p:cNvPicPr/>
          <p:nvPr/>
        </p:nvPicPr>
        <p:blipFill>
          <a:blip r:embed="rId3"/>
          <a:stretch/>
        </p:blipFill>
        <p:spPr>
          <a:xfrm>
            <a:off x="900000" y="17445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4"/>
          <a:stretch/>
        </p:blipFill>
        <p:spPr>
          <a:xfrm>
            <a:off x="6948360" y="1728720"/>
            <a:ext cx="1008360" cy="32076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5"/>
          <a:stretch/>
        </p:blipFill>
        <p:spPr>
          <a:xfrm>
            <a:off x="971640" y="24782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6"/>
          <a:stretch/>
        </p:blipFill>
        <p:spPr>
          <a:xfrm>
            <a:off x="6948360" y="2478240"/>
            <a:ext cx="1008360" cy="32040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7"/>
          <a:stretch/>
        </p:blipFill>
        <p:spPr>
          <a:xfrm>
            <a:off x="971640" y="3213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8"/>
          <a:stretch/>
        </p:blipFill>
        <p:spPr>
          <a:xfrm>
            <a:off x="6948360" y="3213000"/>
            <a:ext cx="1008360" cy="32076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9"/>
          <a:stretch/>
        </p:blipFill>
        <p:spPr>
          <a:xfrm>
            <a:off x="971640" y="3933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10"/>
          <a:stretch/>
        </p:blipFill>
        <p:spPr>
          <a:xfrm>
            <a:off x="6948360" y="3976560"/>
            <a:ext cx="1008360" cy="32076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11"/>
          <a:stretch/>
        </p:blipFill>
        <p:spPr>
          <a:xfrm>
            <a:off x="971640" y="46674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12"/>
          <a:stretch/>
        </p:blipFill>
        <p:spPr>
          <a:xfrm>
            <a:off x="6877080" y="4710240"/>
            <a:ext cx="100800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4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20" name="图片 16385" descr=""/>
          <p:cNvPicPr/>
          <p:nvPr/>
        </p:nvPicPr>
        <p:blipFill>
          <a:blip r:embed="rId1"/>
          <a:stretch/>
        </p:blipFill>
        <p:spPr>
          <a:xfrm>
            <a:off x="95400" y="919080"/>
            <a:ext cx="8953200" cy="501984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2"/>
          <a:stretch/>
        </p:blipFill>
        <p:spPr>
          <a:xfrm>
            <a:off x="611280" y="3860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3"/>
          <a:stretch/>
        </p:blipFill>
        <p:spPr>
          <a:xfrm>
            <a:off x="611280" y="43070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4"/>
          <a:stretch/>
        </p:blipFill>
        <p:spPr>
          <a:xfrm>
            <a:off x="611280" y="47386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5"/>
          <a:stretch/>
        </p:blipFill>
        <p:spPr>
          <a:xfrm>
            <a:off x="611280" y="51721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6"/>
          <a:stretch/>
        </p:blipFill>
        <p:spPr>
          <a:xfrm>
            <a:off x="611280" y="560376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1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1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6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1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24" name="组合 22531"/>
          <p:cNvGrpSpPr/>
          <p:nvPr/>
        </p:nvGrpSpPr>
        <p:grpSpPr>
          <a:xfrm>
            <a:off x="433440" y="1268280"/>
            <a:ext cx="8386560" cy="4208760"/>
            <a:chOff x="433440" y="1268280"/>
            <a:chExt cx="8386560" cy="4208760"/>
          </a:xfrm>
        </p:grpSpPr>
        <p:pic>
          <p:nvPicPr>
            <p:cNvPr id="1025" name="图片 22529" descr=""/>
            <p:cNvPicPr/>
            <p:nvPr/>
          </p:nvPicPr>
          <p:blipFill>
            <a:blip r:embed="rId1"/>
            <a:stretch/>
          </p:blipFill>
          <p:spPr>
            <a:xfrm>
              <a:off x="433440" y="1380960"/>
              <a:ext cx="8277120" cy="409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" name="Picture 1" descr=""/>
            <p:cNvPicPr/>
            <p:nvPr/>
          </p:nvPicPr>
          <p:blipFill>
            <a:blip r:embed="rId2"/>
            <a:stretch/>
          </p:blipFill>
          <p:spPr>
            <a:xfrm>
              <a:off x="8459640" y="1268280"/>
              <a:ext cx="360360" cy="108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1042920" y="3068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1042920" y="3645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1042920" y="4149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6"/>
          <a:stretch/>
        </p:blipFill>
        <p:spPr>
          <a:xfrm>
            <a:off x="1042920" y="4653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7"/>
          <a:stretch/>
        </p:blipFill>
        <p:spPr>
          <a:xfrm>
            <a:off x="1042920" y="51577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4" name="图片 21505" descr=""/>
          <p:cNvPicPr/>
          <p:nvPr/>
        </p:nvPicPr>
        <p:blipFill>
          <a:blip r:embed="rId1"/>
          <a:stretch/>
        </p:blipFill>
        <p:spPr>
          <a:xfrm>
            <a:off x="684360" y="1531800"/>
            <a:ext cx="7704000" cy="37594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2"/>
          <a:stretch/>
        </p:blipFill>
        <p:spPr>
          <a:xfrm>
            <a:off x="1692360" y="48546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2987640" y="48546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4"/>
          <a:stretch/>
        </p:blipFill>
        <p:spPr>
          <a:xfrm>
            <a:off x="4356000" y="48546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5"/>
          <a:stretch/>
        </p:blipFill>
        <p:spPr>
          <a:xfrm>
            <a:off x="5724360" y="48546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6"/>
          <a:stretch/>
        </p:blipFill>
        <p:spPr>
          <a:xfrm>
            <a:off x="7062840" y="485460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42" name="组合 20483"/>
          <p:cNvGrpSpPr/>
          <p:nvPr/>
        </p:nvGrpSpPr>
        <p:grpSpPr>
          <a:xfrm>
            <a:off x="539640" y="914400"/>
            <a:ext cx="8135640" cy="5754240"/>
            <a:chOff x="539640" y="914400"/>
            <a:chExt cx="8135640" cy="5754240"/>
          </a:xfrm>
        </p:grpSpPr>
        <p:pic>
          <p:nvPicPr>
            <p:cNvPr id="1043" name="图片 20481" descr=""/>
            <p:cNvPicPr/>
            <p:nvPr/>
          </p:nvPicPr>
          <p:blipFill>
            <a:blip r:embed="rId1"/>
            <a:stretch/>
          </p:blipFill>
          <p:spPr>
            <a:xfrm>
              <a:off x="539640" y="914400"/>
              <a:ext cx="6044400" cy="157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4" name="图片 20482" descr=""/>
            <p:cNvPicPr/>
            <p:nvPr/>
          </p:nvPicPr>
          <p:blipFill>
            <a:blip r:embed="rId2"/>
            <a:stretch/>
          </p:blipFill>
          <p:spPr>
            <a:xfrm>
              <a:off x="913680" y="2650320"/>
              <a:ext cx="7761600" cy="401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2771640" y="1528920"/>
            <a:ext cx="936720" cy="32040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4"/>
          <a:stretch/>
        </p:blipFill>
        <p:spPr>
          <a:xfrm>
            <a:off x="2989440" y="2075040"/>
            <a:ext cx="1295280" cy="32040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5"/>
          <a:stretch/>
        </p:blipFill>
        <p:spPr>
          <a:xfrm>
            <a:off x="4067280" y="2722680"/>
            <a:ext cx="1512720" cy="32040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6"/>
          <a:stretch/>
        </p:blipFill>
        <p:spPr>
          <a:xfrm>
            <a:off x="3348000" y="3284640"/>
            <a:ext cx="1295280" cy="32040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7"/>
          <a:stretch/>
        </p:blipFill>
        <p:spPr>
          <a:xfrm>
            <a:off x="1835280" y="3875040"/>
            <a:ext cx="1295280" cy="3207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8"/>
          <a:stretch/>
        </p:blipFill>
        <p:spPr>
          <a:xfrm>
            <a:off x="2411280" y="4465800"/>
            <a:ext cx="1295640" cy="32040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9"/>
          <a:stretch/>
        </p:blipFill>
        <p:spPr>
          <a:xfrm>
            <a:off x="1908000" y="5041800"/>
            <a:ext cx="935280" cy="3207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10"/>
          <a:stretch/>
        </p:blipFill>
        <p:spPr>
          <a:xfrm>
            <a:off x="4226040" y="5646600"/>
            <a:ext cx="647640" cy="32076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11"/>
          <a:stretch/>
        </p:blipFill>
        <p:spPr>
          <a:xfrm>
            <a:off x="2050920" y="6208560"/>
            <a:ext cx="1225800" cy="32076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12"/>
          <a:stretch/>
        </p:blipFill>
        <p:spPr>
          <a:xfrm>
            <a:off x="5018040" y="6222960"/>
            <a:ext cx="64764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7" name="图片 8193" descr=""/>
          <p:cNvPicPr/>
          <p:nvPr/>
        </p:nvPicPr>
        <p:blipFill>
          <a:blip r:embed="rId1"/>
          <a:stretch/>
        </p:blipFill>
        <p:spPr>
          <a:xfrm>
            <a:off x="309600" y="1057320"/>
            <a:ext cx="8524800" cy="474336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2"/>
          <a:stretch/>
        </p:blipFill>
        <p:spPr>
          <a:xfrm>
            <a:off x="971640" y="3875040"/>
            <a:ext cx="1584360" cy="24912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3"/>
          <a:stretch/>
        </p:blipFill>
        <p:spPr>
          <a:xfrm>
            <a:off x="4284720" y="3875040"/>
            <a:ext cx="1584360" cy="2491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4"/>
          <a:stretch/>
        </p:blipFill>
        <p:spPr>
          <a:xfrm>
            <a:off x="7250040" y="3846600"/>
            <a:ext cx="1584360" cy="24912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5"/>
          <a:stretch/>
        </p:blipFill>
        <p:spPr>
          <a:xfrm>
            <a:off x="1157400" y="5445000"/>
            <a:ext cx="1584360" cy="2494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6"/>
          <a:stretch/>
        </p:blipFill>
        <p:spPr>
          <a:xfrm>
            <a:off x="4356000" y="5445000"/>
            <a:ext cx="1584360" cy="2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5" name="图片 9217" descr=""/>
          <p:cNvPicPr/>
          <p:nvPr/>
        </p:nvPicPr>
        <p:blipFill>
          <a:blip r:embed="rId1"/>
          <a:stretch/>
        </p:blipFill>
        <p:spPr>
          <a:xfrm>
            <a:off x="257040" y="1914480"/>
            <a:ext cx="8629920" cy="302904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3"/>
          <a:stretch/>
        </p:blipFill>
        <p:spPr>
          <a:xfrm>
            <a:off x="900000" y="29973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4"/>
          <a:stretch/>
        </p:blipFill>
        <p:spPr>
          <a:xfrm>
            <a:off x="826920" y="35146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5"/>
          <a:stretch/>
        </p:blipFill>
        <p:spPr>
          <a:xfrm>
            <a:off x="900000" y="4076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6"/>
          <a:stretch/>
        </p:blipFill>
        <p:spPr>
          <a:xfrm>
            <a:off x="826920" y="459576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3" name="图片 10241" descr=""/>
          <p:cNvPicPr/>
          <p:nvPr/>
        </p:nvPicPr>
        <p:blipFill>
          <a:blip r:embed="rId1"/>
          <a:stretch/>
        </p:blipFill>
        <p:spPr>
          <a:xfrm>
            <a:off x="114480" y="1003320"/>
            <a:ext cx="8915400" cy="530532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2"/>
          <a:stretch/>
        </p:blipFill>
        <p:spPr>
          <a:xfrm>
            <a:off x="684360" y="1512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3"/>
          <a:stretch/>
        </p:blipFill>
        <p:spPr>
          <a:xfrm>
            <a:off x="755640" y="25066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4"/>
          <a:stretch/>
        </p:blipFill>
        <p:spPr>
          <a:xfrm>
            <a:off x="684360" y="3429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5"/>
          <a:stretch/>
        </p:blipFill>
        <p:spPr>
          <a:xfrm>
            <a:off x="684360" y="4437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6"/>
          <a:stretch/>
        </p:blipFill>
        <p:spPr>
          <a:xfrm>
            <a:off x="684360" y="53737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1" name="图片 12290" descr=""/>
          <p:cNvPicPr/>
          <p:nvPr/>
        </p:nvPicPr>
        <p:blipFill>
          <a:blip r:embed="rId1"/>
          <a:stretch/>
        </p:blipFill>
        <p:spPr>
          <a:xfrm>
            <a:off x="179280" y="1646280"/>
            <a:ext cx="8688600" cy="352584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2"/>
          <a:stretch/>
        </p:blipFill>
        <p:spPr>
          <a:xfrm>
            <a:off x="755640" y="2060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3"/>
          <a:stretch/>
        </p:blipFill>
        <p:spPr>
          <a:xfrm>
            <a:off x="698400" y="24782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4"/>
          <a:stretch/>
        </p:blipFill>
        <p:spPr>
          <a:xfrm>
            <a:off x="698400" y="29383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5"/>
          <a:stretch/>
        </p:blipFill>
        <p:spPr>
          <a:xfrm>
            <a:off x="684360" y="3371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6"/>
          <a:stretch/>
        </p:blipFill>
        <p:spPr>
          <a:xfrm>
            <a:off x="698400" y="378936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9" name="图片 11265" descr=""/>
          <p:cNvPicPr/>
          <p:nvPr/>
        </p:nvPicPr>
        <p:blipFill>
          <a:blip r:embed="rId1"/>
          <a:stretch/>
        </p:blipFill>
        <p:spPr>
          <a:xfrm>
            <a:off x="880920" y="1433520"/>
            <a:ext cx="7382160" cy="399096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" descr=""/>
          <p:cNvPicPr/>
          <p:nvPr/>
        </p:nvPicPr>
        <p:blipFill>
          <a:blip r:embed="rId2"/>
          <a:stretch/>
        </p:blipFill>
        <p:spPr>
          <a:xfrm>
            <a:off x="2843280" y="2449440"/>
            <a:ext cx="576360" cy="32076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" descr=""/>
          <p:cNvPicPr/>
          <p:nvPr/>
        </p:nvPicPr>
        <p:blipFill>
          <a:blip r:embed="rId3"/>
          <a:stretch/>
        </p:blipFill>
        <p:spPr>
          <a:xfrm>
            <a:off x="2771640" y="4005360"/>
            <a:ext cx="576360" cy="32040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1" descr=""/>
          <p:cNvPicPr/>
          <p:nvPr/>
        </p:nvPicPr>
        <p:blipFill>
          <a:blip r:embed="rId4"/>
          <a:stretch/>
        </p:blipFill>
        <p:spPr>
          <a:xfrm>
            <a:off x="2843280" y="4494240"/>
            <a:ext cx="576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48:42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